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786-779D-4294-96A6-73171DC3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11F-AA81-4D82-BFC3-970B0F4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246-3BD2-43BF-A662-CEE02CDC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9CB-5299-4B81-BAB5-C066DD21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687-B852-48B3-B750-0AD61ED9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35BC-CA0D-41FC-90A3-6636CD1E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65B2-CAA9-46A2-8EC4-CF6DC188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77AA-3DAF-4740-8720-12919D4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8B40-4FD2-4917-B81D-D48E3A7A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CCD-AA3B-4E96-B099-66F77A9B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16A0-EF8E-4C32-982A-F8FD627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460-5F67-46BC-84EF-256916D1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5ACE-0D27-40FE-8C91-256429EA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068C-E8BB-4DD5-A7A0-1D5ADDC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81BE-A9A2-4597-BA02-E5C506C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DDF7-A921-4BE3-82F6-BFBA341C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7911-6DCE-457F-9F41-A0FBFD4B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1D2-88A2-4DC7-9422-A1D9540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78F-03B3-42F5-925C-FDF07A8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57A-4823-412D-A203-C6EE1371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F58-6A77-45A9-9314-0B909A84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1EE-FFA5-49EF-8E6E-CF31CA3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749-D8AF-4B67-9C61-B45AAFD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E55-B8DC-4898-9416-E4F058E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226C-F9C0-451B-8D85-0D7DA646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6EC-68CC-4277-AADF-3465ACF0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7D5-239E-4390-B109-E9AA1FE4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6"/>
          <p:cNvSpPr/>
          <p:nvPr/>
        </p:nvSpPr>
        <p:spPr>
          <a:xfrm>
            <a:off x="684360" y="3228840"/>
            <a:ext cx="428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c 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BA89-BD4F-4287-B621-A7330380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entral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ngle whose vertex i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the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4267080" y="3429000"/>
          <a:ext cx="7621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429000"/>
                    <a:ext cx="7621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28600" y="4114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 minor arc is the measure of its central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920" y="5181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 major arc is 360 minus the measure of its central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4920" y="3581280"/>
            <a:ext cx="4038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 meas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3200400" y="4572000"/>
          <a:ext cx="220968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572000"/>
                    <a:ext cx="2209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13" descr=""/>
          <p:cNvPicPr/>
          <p:nvPr/>
        </p:nvPicPr>
        <p:blipFill>
          <a:blip r:embed="rId5"/>
          <a:stretch/>
        </p:blipFill>
        <p:spPr>
          <a:xfrm>
            <a:off x="6477120" y="2286000"/>
            <a:ext cx="202860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14"/>
          <p:cNvGraphicFramePr/>
          <p:nvPr/>
        </p:nvGraphicFramePr>
        <p:xfrm>
          <a:off x="2743200" y="2666880"/>
          <a:ext cx="1447920" cy="5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2666880"/>
                    <a:ext cx="14479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020-92C5-4D00-B008-2F5F5F48B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MFERENCE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ircum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tance a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rc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5"/>
          <p:cNvGraphicFramePr/>
          <p:nvPr/>
        </p:nvGraphicFramePr>
        <p:xfrm>
          <a:off x="1905120" y="2895480"/>
          <a:ext cx="160020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16002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4800600" y="2895480"/>
          <a:ext cx="1676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95480"/>
                    <a:ext cx="1676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2"/>
          <p:cNvGraphicFramePr/>
          <p:nvPr/>
        </p:nvGraphicFramePr>
        <p:xfrm>
          <a:off x="7315200" y="3429000"/>
          <a:ext cx="12952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3429000"/>
                    <a:ext cx="1295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13"/>
          <p:cNvSpPr/>
          <p:nvPr/>
        </p:nvSpPr>
        <p:spPr>
          <a:xfrm>
            <a:off x="3049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29320" y="4114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6765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ircumference of the following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4"/>
          <p:cNvGrpSpPr/>
          <p:nvPr/>
        </p:nvGrpSpPr>
        <p:grpSpPr>
          <a:xfrm>
            <a:off x="6705720" y="4419720"/>
            <a:ext cx="1981080" cy="1925640"/>
            <a:chOff x="6705720" y="4419720"/>
            <a:chExt cx="1981080" cy="1925640"/>
          </a:xfrm>
        </p:grpSpPr>
        <p:sp>
          <p:nvSpPr>
            <p:cNvPr id="124" name="AutoShape 33"/>
            <p:cNvSpPr/>
            <p:nvPr/>
          </p:nvSpPr>
          <p:spPr>
            <a:xfrm>
              <a:off x="6705720" y="4419720"/>
              <a:ext cx="1981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5"/>
            <p:cNvSpPr/>
            <p:nvPr/>
          </p:nvSpPr>
          <p:spPr>
            <a:xfrm>
              <a:off x="6843600" y="4557600"/>
              <a:ext cx="1663920" cy="166392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7669080" y="5383080"/>
              <a:ext cx="825480" cy="129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7"/>
            <p:cNvSpPr/>
            <p:nvPr/>
          </p:nvSpPr>
          <p:spPr>
            <a:xfrm>
              <a:off x="7928280" y="513540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8"/>
            <p:cNvSpPr/>
            <p:nvPr/>
          </p:nvSpPr>
          <p:spPr>
            <a:xfrm>
              <a:off x="7640640" y="5354640"/>
              <a:ext cx="69840" cy="68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9"/>
            <p:cNvSpPr/>
            <p:nvPr/>
          </p:nvSpPr>
          <p:spPr>
            <a:xfrm>
              <a:off x="8466120" y="5369040"/>
              <a:ext cx="69840" cy="68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Object 40"/>
          <p:cNvGraphicFramePr/>
          <p:nvPr/>
        </p:nvGraphicFramePr>
        <p:xfrm>
          <a:off x="3179880" y="4572000"/>
          <a:ext cx="171756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9880" y="4572000"/>
                    <a:ext cx="1717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42"/>
          <p:cNvGraphicFramePr/>
          <p:nvPr/>
        </p:nvGraphicFramePr>
        <p:xfrm>
          <a:off x="3200400" y="5105520"/>
          <a:ext cx="160020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5105520"/>
                    <a:ext cx="16002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3"/>
          <p:cNvGraphicFramePr/>
          <p:nvPr/>
        </p:nvGraphicFramePr>
        <p:xfrm>
          <a:off x="3124080" y="5715000"/>
          <a:ext cx="1600200" cy="4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5715000"/>
                    <a:ext cx="16002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44"/>
          <p:cNvSpPr/>
          <p:nvPr/>
        </p:nvSpPr>
        <p:spPr>
          <a:xfrm>
            <a:off x="48006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6095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12BA-6751-4C42-9790-011BAD54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rc Length</a:t>
            </a:r>
            <a:endParaRPr b="0" lang="en-US" sz="4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rc 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tance a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28800" cy="1793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60020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rcumference multiplied by the ratio of the center angle and 3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28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6324480" y="4191120"/>
            <a:ext cx="1981440" cy="1936800"/>
            <a:chOff x="6324480" y="4191120"/>
            <a:chExt cx="1981440" cy="1936800"/>
          </a:xfrm>
        </p:grpSpPr>
        <p:sp>
          <p:nvSpPr>
            <p:cNvPr id="147" name="AutoShape 12"/>
            <p:cNvSpPr/>
            <p:nvPr/>
          </p:nvSpPr>
          <p:spPr>
            <a:xfrm>
              <a:off x="6324480" y="4191120"/>
              <a:ext cx="198144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14"/>
            <p:cNvSpPr/>
            <p:nvPr/>
          </p:nvSpPr>
          <p:spPr>
            <a:xfrm>
              <a:off x="7248600" y="4479840"/>
              <a:ext cx="812880" cy="857160"/>
            </a:xfrm>
            <a:prstGeom prst="pie">
              <a:avLst/>
            </a:prstGeom>
            <a:noFill/>
            <a:ln w="334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"/>
            <p:cNvSpPr/>
            <p:nvPr/>
          </p:nvSpPr>
          <p:spPr>
            <a:xfrm>
              <a:off x="6435720" y="4379760"/>
              <a:ext cx="1636560" cy="16369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7248600" y="4479840"/>
              <a:ext cx="388800" cy="712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>
              <a:off x="7248600" y="5192640"/>
              <a:ext cx="801720" cy="14436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>
              <a:off x="7566480" y="52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9"/>
            <p:cNvSpPr/>
            <p:nvPr/>
          </p:nvSpPr>
          <p:spPr>
            <a:xfrm>
              <a:off x="7655040" y="5281560"/>
              <a:ext cx="26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0"/>
            <p:cNvSpPr/>
            <p:nvPr/>
          </p:nvSpPr>
          <p:spPr>
            <a:xfrm>
              <a:off x="7392240" y="50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>
              <a:off x="7644960" y="50036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>
              <a:off x="7226280" y="5170320"/>
              <a:ext cx="55440" cy="55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7159680" y="5192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4"/>
            <p:cNvSpPr/>
            <p:nvPr/>
          </p:nvSpPr>
          <p:spPr>
            <a:xfrm>
              <a:off x="8028000" y="5315040"/>
              <a:ext cx="5544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8128080" y="5303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615080" y="4457880"/>
              <a:ext cx="5580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7626600" y="4302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" name="Object 32"/>
          <p:cNvGraphicFramePr/>
          <p:nvPr/>
        </p:nvGraphicFramePr>
        <p:xfrm>
          <a:off x="4038480" y="5764320"/>
          <a:ext cx="2568600" cy="4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764320"/>
                    <a:ext cx="25686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05740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 Leng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3886200" y="3809880"/>
          <a:ext cx="169848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3809880"/>
                    <a:ext cx="1698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E2B-74F9-43F7-8E9E-7C9FDC037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rea of a Circle</a:t>
            </a:r>
            <a:endParaRPr b="0" lang="en-US" sz="4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ircle is the number of unit squares that can fit into a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16"/>
          <p:cNvGraphicFramePr/>
          <p:nvPr/>
        </p:nvGraphicFramePr>
        <p:xfrm>
          <a:off x="2743200" y="4419720"/>
          <a:ext cx="189216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419720"/>
                    <a:ext cx="18921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2057400" y="2666880"/>
          <a:ext cx="1676520" cy="6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666880"/>
                    <a:ext cx="16765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3808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82880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rea of the following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"/>
          <p:cNvGrpSpPr/>
          <p:nvPr/>
        </p:nvGrpSpPr>
        <p:grpSpPr>
          <a:xfrm>
            <a:off x="6629400" y="4191120"/>
            <a:ext cx="1981080" cy="1925640"/>
            <a:chOff x="6629400" y="4191120"/>
            <a:chExt cx="1981080" cy="1925640"/>
          </a:xfrm>
        </p:grpSpPr>
        <p:sp>
          <p:nvSpPr>
            <p:cNvPr id="178" name="AutoShape 10"/>
            <p:cNvSpPr/>
            <p:nvPr/>
          </p:nvSpPr>
          <p:spPr>
            <a:xfrm>
              <a:off x="6629400" y="4191120"/>
              <a:ext cx="1981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"/>
            <p:cNvSpPr/>
            <p:nvPr/>
          </p:nvSpPr>
          <p:spPr>
            <a:xfrm>
              <a:off x="6767280" y="4329000"/>
              <a:ext cx="1663920" cy="166392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7592760" y="5154480"/>
              <a:ext cx="825480" cy="129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7851960" y="490680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"/>
            <p:cNvSpPr/>
            <p:nvPr/>
          </p:nvSpPr>
          <p:spPr>
            <a:xfrm>
              <a:off x="7564320" y="5126040"/>
              <a:ext cx="69840" cy="68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5"/>
            <p:cNvSpPr/>
            <p:nvPr/>
          </p:nvSpPr>
          <p:spPr>
            <a:xfrm>
              <a:off x="8389800" y="5140440"/>
              <a:ext cx="69840" cy="68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" name="Object 18"/>
          <p:cNvGraphicFramePr/>
          <p:nvPr/>
        </p:nvGraphicFramePr>
        <p:xfrm>
          <a:off x="2666880" y="5105520"/>
          <a:ext cx="144792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105520"/>
                    <a:ext cx="14479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0"/>
          <p:cNvGraphicFramePr/>
          <p:nvPr/>
        </p:nvGraphicFramePr>
        <p:xfrm>
          <a:off x="2590920" y="5638680"/>
          <a:ext cx="283500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638680"/>
                    <a:ext cx="2835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1"/>
          <p:cNvSpPr/>
          <p:nvPr/>
        </p:nvSpPr>
        <p:spPr>
          <a:xfrm>
            <a:off x="38088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70D7-172F-402B-BCEC-B01196E5A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rea of a Sector</a:t>
            </a:r>
            <a:endParaRPr b="0" lang="en-US" sz="4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ea of a s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rea of a section of the cir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904760" cy="1838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523880" y="2895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multiplied by the ratio of the center angle and 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2860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286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1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666880" cy="2550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7"/>
          <p:cNvSpPr/>
          <p:nvPr/>
        </p:nvSpPr>
        <p:spPr>
          <a:xfrm>
            <a:off x="762012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65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2"/>
          <p:cNvGraphicFramePr/>
          <p:nvPr/>
        </p:nvGraphicFramePr>
        <p:xfrm>
          <a:off x="2666880" y="5638680"/>
          <a:ext cx="312444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638680"/>
                    <a:ext cx="31244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4"/>
          <p:cNvSpPr/>
          <p:nvPr/>
        </p:nvSpPr>
        <p:spPr>
          <a:xfrm>
            <a:off x="16002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5"/>
          <p:cNvGraphicFramePr/>
          <p:nvPr/>
        </p:nvGraphicFramePr>
        <p:xfrm>
          <a:off x="2666880" y="3657600"/>
          <a:ext cx="1613160" cy="20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657600"/>
                    <a:ext cx="16131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8:49:17Z</dcterms:created>
  <dc:creator>Administrator</dc:creator>
  <dc:description/>
  <dc:language>en-US</dc:language>
  <cp:lastModifiedBy>CCSD</cp:lastModifiedBy>
  <dcterms:modified xsi:type="dcterms:W3CDTF">2011-05-05T17:35:56Z</dcterms:modified>
  <cp:revision>27</cp:revision>
  <dc:subject/>
  <dc:title>8-2 FORMULAS</dc:title>
</cp:coreProperties>
</file>